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D770-DD4E-4798-90F5-34A6788B4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8BDF-EEF4-4D0A-84E4-30247F08F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B3AE-42A6-440C-9E38-8440F17ED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CD9E-847B-48D7-98B8-B988285DC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ED80-FB43-4C9A-BDDC-8A39521CB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7D53-4640-4CB8-8BC6-F0EBC0999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A137-67F2-4E3F-B0AB-DA4A91AE9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9A13-735B-450A-B97E-2A3308AA9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0ABA-2FFD-4B86-906E-C0FA886D5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D593-1855-493E-B4F5-EBF09115C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9EE3-EF62-4BB9-8CBE-EA940D23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C2E0-7006-4D1C-979E-9C29A8545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BF7CE-F2BD-4BE1-940E-3AC7E52296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Gas Stoichiom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You know the dril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he balanced chemical eq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your giv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sure your units are consistent (i.e. convert to Kelvin, kPa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mole ratios to sol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xample 1: Volume-to-Volu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atalytic converter in the exhaust system of a car uses oxygen (from the air) and a catalyst to convert poisonous carbon monoxide to carbon dioxide. If temperature and pressure remain constant, what volume of oxygen is required to react with 65.0 L of carbon monoxide produced during a road trip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228600" y="3276720"/>
          <a:ext cx="5105520" cy="1538280"/>
        </p:xfrm>
        <a:graphic>
          <a:graphicData uri="http://schemas.openxmlformats.org/drawingml/2006/table">
            <a:tbl>
              <a:tblPr/>
              <a:tblGrid>
                <a:gridCol w="1371600"/>
                <a:gridCol w="2590920"/>
                <a:gridCol w="114300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CO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(g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(g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CO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(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.0 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= 65.0 L X 1 mol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O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mol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32.5 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"/>
          <p:cNvSpPr/>
          <p:nvPr/>
        </p:nvSpPr>
        <p:spPr>
          <a:xfrm>
            <a:off x="5486400" y="2590920"/>
            <a:ext cx="3505320" cy="1465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Law of Combining Volume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t a constant T and P, volumes of gaseous reactants and products react in whole-number rat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47920" y="5334120"/>
            <a:ext cx="6095880" cy="4597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olume of oxygen required is 32.5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411480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76520" y="3733920"/>
            <a:ext cx="243828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xample 2: Mass-to-Volu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5715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volume of carbon dioxide is produced when 6.40 g of methane gas, 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reacts with excess oxygen? All gases are at 35.0˚C and 100.0 kP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228600" y="2235240"/>
          <a:ext cx="8686800" cy="2081160"/>
        </p:xfrm>
        <a:graphic>
          <a:graphicData uri="http://schemas.openxmlformats.org/drawingml/2006/table">
            <a:tbl>
              <a:tblPr/>
              <a:tblGrid>
                <a:gridCol w="2209680"/>
                <a:gridCol w="1219320"/>
                <a:gridCol w="4114800"/>
                <a:gridCol w="114300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(g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O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(g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(g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H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(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 = 6.40 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 = 16.05 g/m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= 6.40 g X 1 m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05 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= 0.3988 m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= 0.3988 mol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H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X 1 mol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O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mol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H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= 0.3988 mol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O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"/>
          <p:cNvSpPr/>
          <p:nvPr/>
        </p:nvSpPr>
        <p:spPr>
          <a:xfrm>
            <a:off x="6934320" y="762120"/>
            <a:ext cx="1218960" cy="368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V = n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72200" y="1295280"/>
            <a:ext cx="2743200" cy="7855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= 308.15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= 8.314 kPa·L/mol·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657600" y="4419720"/>
            <a:ext cx="541008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V = n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= n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= (0.3988 mol)(8.314 kPa·L·mol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·K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(308.15 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.0 k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 = 10.2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365760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867280" y="297180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267080" y="51055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267080" y="5791320"/>
            <a:ext cx="4724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2666880"/>
            <a:ext cx="20574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733920" y="2666880"/>
            <a:ext cx="32004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57600" y="4419720"/>
            <a:ext cx="5486400" cy="21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xample 3: Volume-to-M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57913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mass of sodium azide, Na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is required to produce the 67.0 L of nitrogen gas that is needed to fill a car’s airbag? Assume a temperature of 32˚C and a pressure pf 105 k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28600" y="2235240"/>
          <a:ext cx="8610480" cy="4392720"/>
        </p:xfrm>
        <a:graphic>
          <a:graphicData uri="http://schemas.openxmlformats.org/drawingml/2006/table">
            <a:tbl>
              <a:tblPr/>
              <a:tblGrid>
                <a:gridCol w="3200400"/>
                <a:gridCol w="1143000"/>
                <a:gridCol w="426708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NaN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(s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Na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(s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N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(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= 2.774 mol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N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X 2 mol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NaN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mol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N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= 1.849 mol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NaN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 = 65.02 g/m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 = 1.849 mol X 65.02 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m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 = 120.22 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 = 1.2 X 10</a:t>
                      </a:r>
                      <a:r>
                        <a:rPr b="1" lang="en-US" sz="1800" spc="-1" strike="noStrike" baseline="30000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= 67.0 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V = n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= P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=             (105 kPa)(67.0 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.314 kPa·L·mol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·K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(305.15 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= 2.774 m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"/>
          <p:cNvSpPr/>
          <p:nvPr/>
        </p:nvSpPr>
        <p:spPr>
          <a:xfrm>
            <a:off x="6934320" y="762120"/>
            <a:ext cx="1218960" cy="368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V = n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72200" y="1295280"/>
            <a:ext cx="2743200" cy="7855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= 305.15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= 8.314 kPa·L/mol·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09680" y="297180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181480" y="396252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181480" y="4648320"/>
            <a:ext cx="3505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81080" y="495288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48320" y="3352680"/>
            <a:ext cx="411480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2666880"/>
            <a:ext cx="29718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3962520"/>
            <a:ext cx="266688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9T00:17:00Z</dcterms:created>
  <dc:creator>Fiona Smith</dc:creator>
  <dc:description/>
  <dc:language>en-US</dc:language>
  <cp:lastModifiedBy>OCDSB User</cp:lastModifiedBy>
  <dcterms:modified xsi:type="dcterms:W3CDTF">2011-06-09T16:00:42Z</dcterms:modified>
  <cp:revision>6</cp:revision>
  <dc:subject/>
  <dc:title>Gas Stoichiometry</dc:title>
</cp:coreProperties>
</file>